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59D-F731-48B9-A79C-56E4AFD5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070-6C1E-4FFE-A3E0-AFA3F7A6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459-F01F-48DD-B01F-F3B05D03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852-5144-45CE-95B8-043ABF3C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271F-F1E0-4F03-9663-2C274ABA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A07-6331-4782-B001-6398C002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7A28-42F9-4D4C-BC3C-D41843FB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2A7F-7B27-44A0-8030-A0A323D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EC65-6CD8-4FB6-A9DF-81E37E4E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A6C7-ACB8-4B4D-B8DE-CB69DD1D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D25A-DBC0-4906-A5D5-FD41F1E6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A76-2751-440B-87F2-5D28FF62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398-895A-4737-BF31-6F75D39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EA6-6E9A-405D-BC26-2774EEA4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9DF0-2ADE-4025-88F0-F1DDEFDC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73B8-582E-4386-A27C-4C06F035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A02F-9F38-43E0-B988-C12844E4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97E-F8D9-45A8-91B8-D0B3F213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24C-2E10-4896-9529-18F55EDD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E53-C98B-40FE-B167-CCE2B58F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06E-F25C-401A-BCBA-82B5640F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5D2-4FA6-4AA9-92FF-3CCA0B95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01F-2A1F-400F-8CD2-338B916E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0A0-BA69-4930-ACEB-6A82629D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60A3-E71C-4F9A-ADF8-9CD152688B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C246-0ACD-411F-BC3D-BF5D5BE990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716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ОСНОВНЫЕ    РАЗДЕЛЫ   КУРС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16320" y="1817280"/>
            <a:ext cx="6110640" cy="3459600"/>
            <a:chOff x="1516320" y="1817280"/>
            <a:chExt cx="6110640" cy="3459600"/>
          </a:xfrm>
        </p:grpSpPr>
        <p:sp>
          <p:nvSpPr>
            <p:cNvPr id="97" name="_s138248"/>
            <p:cNvSpPr/>
            <p:nvPr/>
          </p:nvSpPr>
          <p:spPr>
            <a:xfrm>
              <a:off x="3746520" y="2430360"/>
              <a:ext cx="1652760" cy="1755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4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38249"/>
            <p:cNvSpPr/>
            <p:nvPr/>
          </p:nvSpPr>
          <p:spPr>
            <a:xfrm>
              <a:off x="3746520" y="181728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38250"/>
            <p:cNvSpPr/>
            <p:nvPr/>
          </p:nvSpPr>
          <p:spPr>
            <a:xfrm>
              <a:off x="4290840" y="3433680"/>
              <a:ext cx="1652760" cy="175572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38251"/>
            <p:cNvSpPr/>
            <p:nvPr/>
          </p:nvSpPr>
          <p:spPr>
            <a:xfrm>
              <a:off x="5974200" y="483804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П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38252"/>
            <p:cNvSpPr/>
            <p:nvPr/>
          </p:nvSpPr>
          <p:spPr>
            <a:xfrm>
              <a:off x="3200040" y="3432240"/>
              <a:ext cx="1652760" cy="17557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38253"/>
            <p:cNvSpPr/>
            <p:nvPr/>
          </p:nvSpPr>
          <p:spPr>
            <a:xfrm>
              <a:off x="1516320" y="4836240"/>
              <a:ext cx="16527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Б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Темы, нас интересующ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сочинен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подчиненные предложения </a:t>
            </a:r>
            <a:r>
              <a:rPr b="0" lang="en-US" sz="3000" spc="-1" strike="noStrike">
                <a:solidFill>
                  <a:srgbClr val="000000"/>
                </a:solidFill>
                <a:latin typeface="Castellar"/>
              </a:rPr>
              <a:t>(с придаточными определительными, изъяснительными, обстоятельственными, условные, сравнительные, уступительные, образа действия и степени, места, времени, причины, цели, следстви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ессоюзные слож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420840"/>
            <a:ext cx="7985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2T01:20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